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A60-5395-4D3D-A219-FE45C4AD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EB0-7582-41DC-8074-FF151C0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124-9780-4816-95B1-B0123F0F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91E-CB76-4B0E-9459-D492E6E4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5B0B-745D-4F71-9786-8D1389E7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7892-BE38-4B36-86DC-4B48356D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CAA2-89C1-4241-BAC3-659CDEDE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7C2-2B34-4D3A-8F29-AD5830C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E75C-D690-4F23-97EC-5281D94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9A09-0F12-403A-BCAD-C4FB690C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A35D-5B37-40AC-922F-CA6B994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152-510B-46B5-B501-CAC191D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AF9B-B0DD-436E-83C3-9A32A73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BD3F-D29B-49BE-968C-BDEFB55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9D93-373D-4C67-B648-D26AC984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6AEC-64FF-40D1-BFA9-43E5B06F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7A23-D1EE-459D-9AC1-C533B38C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166-8B79-42F5-9A72-C84D744A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7AD-893E-4AF9-ADE6-88E822BC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68E-2E90-42A0-966A-E2EA41EB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460-2DE4-43B8-8B61-772B2E9C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B69-7985-46C5-AD4C-47793D2B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C5A-59CD-42C5-8CA2-0F982C7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28D-AFF4-4E0E-A981-A67142D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A4B5-5A9F-42D6-B5FF-37AD7091C6C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09D-BB03-49F8-B622-34C97B8DEC6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1981080"/>
            <a:ext cx="64882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badi MT Condensed Extra Bold"/>
              </a:rPr>
              <a:t>                 </a:t>
            </a: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Welcome 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     How do I prepare for</a:t>
            </a:r>
            <a:endParaRPr b="0" lang="en-US" sz="42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	</a:t>
            </a: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          </a:t>
            </a:r>
            <a:r>
              <a:rPr b="0" lang="en-US" sz="4200" spc="-1" strike="noStrike">
                <a:solidFill>
                  <a:srgbClr val="320000"/>
                </a:solidFill>
                <a:latin typeface="Abadi MT Condensed Extra Bold"/>
              </a:rPr>
              <a:t>PSSA?</a:t>
            </a:r>
            <a:endParaRPr b="0" lang="en-US" sz="42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80"/>
                </a:solidFill>
                <a:latin typeface="Abadi MT Condensed Extra Bold"/>
              </a:rPr>
              <a:t>Fairview Elementary      February 15, 2011</a:t>
            </a:r>
            <a:r>
              <a:rPr b="0" lang="en-US" sz="3600" spc="-1" strike="noStrike">
                <a:solidFill>
                  <a:srgbClr val="ff0080"/>
                </a:solidFill>
                <a:latin typeface="Abadi MT Condensed Extra Bold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77400" y="214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2400"/>
            </a:b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lease turn off your iClicker while you are reading!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00"/>
                </a:solidFill>
                <a:latin typeface="Arial"/>
              </a:rPr>
              <a:t>Here we go students and parents.  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00"/>
                </a:solidFill>
                <a:latin typeface="Arial"/>
              </a:rPr>
              <a:t>The next questions relate to the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00"/>
                </a:solidFill>
                <a:latin typeface="Arial"/>
              </a:rPr>
              <a:t>reading passage.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.  What is an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egre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a bir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 bu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a pla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an elepha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y did the egrets and all the ot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imals love Ella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She was big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She was kind and helpful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She was funny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She could run fas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did Ella warn the animals of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anger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She stomped the groun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She ran through the gras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She used her trunk like a trumpe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She flapped her ea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id the egrets know that Ella wasn’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eeling well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.  She fell dow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.  She walked slowly and breathed har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.  She began to cr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.  She stopped eat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.  How did the elephants hug Ella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They wrapped trunk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They wrapped ea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They stood around h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They stomped their fee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pecial plant in the story is mo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ke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a be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 trumpet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some feather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some medicine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t the end of the story, the animals are happy because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Ella feels bett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Ella goes to sleep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Ella is moving tre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Ella is eating insect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etting for this story i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a zoo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 jungl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a  riv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a hous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badi MT Condensed Extra Bold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Provide overview of PSS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Introduce tes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Practice sample question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Identify ways to help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Abadi MT Condensed Extra Bold"/>
              </a:rPr>
              <a:t>Have fun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theme of this story i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sleep if you are tire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plants make good medici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you can always count on you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riend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never work too hard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286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genre is this story most like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.  Realistic fi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.  Autobiograph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.  Poet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.  Fabl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Restate the question.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Answer the question in your own words.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Prove your answer by providing 2-3 examples from the text.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8000ff"/>
                </a:solidFill>
                <a:latin typeface="Verdana"/>
              </a:rPr>
              <a:t>Constructing an Open Response - RAPS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heme of this story?  Support your answer with two examples from the text.  </a:t>
            </a:r>
            <a:br>
              <a:rPr sz="2400"/>
            </a:br>
            <a:r>
              <a:rPr b="0" lang="en-US" sz="5600" spc="-1" strike="noStrike">
                <a:solidFill>
                  <a:srgbClr val="0080ff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8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80ff"/>
                </a:solidFill>
                <a:latin typeface="Arial"/>
              </a:rPr>
              <a:t>Sum it up!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0" name="Content Placeholder 5" descr="math1.tiff"/>
          <p:cNvPicPr/>
          <p:nvPr/>
        </p:nvPicPr>
        <p:blipFill>
          <a:blip r:embed="rId1"/>
          <a:srcRect l="0" t="-7618" r="0" b="-7618"/>
          <a:stretch/>
        </p:blipFill>
        <p:spPr>
          <a:xfrm>
            <a:off x="2438280" y="0"/>
            <a:ext cx="4854600" cy="3048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73560" y="3124080"/>
            <a:ext cx="19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. 3/8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. 3/5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. 5/8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2520" y="91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5" name="Content Placeholder 3" descr="math2.tiff"/>
          <p:cNvPicPr/>
          <p:nvPr/>
        </p:nvPicPr>
        <p:blipFill>
          <a:blip r:embed="rId1"/>
          <a:srcRect l="0" t="-70288" r="0" b="-70288"/>
          <a:stretch/>
        </p:blipFill>
        <p:spPr>
          <a:xfrm>
            <a:off x="1066680" y="-380880"/>
            <a:ext cx="7315200" cy="459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math2answer.tiff"/>
          <p:cNvPicPr/>
          <p:nvPr/>
        </p:nvPicPr>
        <p:blipFill>
          <a:blip r:embed="rId2"/>
          <a:stretch/>
        </p:blipFill>
        <p:spPr>
          <a:xfrm>
            <a:off x="1752480" y="3809880"/>
            <a:ext cx="2946600" cy="2197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841400" y="38098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830600" y="44197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1830960" y="494028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1832040" y="548640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53" name="Content Placeholder 3" descr="math10.tiff"/>
          <p:cNvPicPr/>
          <p:nvPr/>
        </p:nvPicPr>
        <p:blipFill>
          <a:blip r:embed="rId1"/>
          <a:srcRect l="0" t="-45201" r="0" b="-45201"/>
          <a:stretch/>
        </p:blipFill>
        <p:spPr>
          <a:xfrm>
            <a:off x="1752480" y="685800"/>
            <a:ext cx="4267440" cy="26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math10b.tiff"/>
          <p:cNvPicPr/>
          <p:nvPr/>
        </p:nvPicPr>
        <p:blipFill>
          <a:blip r:embed="rId2"/>
          <a:stretch/>
        </p:blipFill>
        <p:spPr>
          <a:xfrm>
            <a:off x="2057400" y="3200400"/>
            <a:ext cx="1231920" cy="24004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186280" y="33526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2186280" y="388620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2186640" y="44910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2184480" y="5024520"/>
            <a:ext cx="40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tent Placeholder 3" descr="math4.tiff"/>
          <p:cNvPicPr/>
          <p:nvPr/>
        </p:nvPicPr>
        <p:blipFill>
          <a:blip r:embed="rId1"/>
          <a:srcRect l="0" t="-15619" r="0" b="-15619"/>
          <a:stretch/>
        </p:blipFill>
        <p:spPr>
          <a:xfrm>
            <a:off x="2666880" y="0"/>
            <a:ext cx="3502080" cy="2198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39720" y="2590920"/>
            <a:ext cx="21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86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. 87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. 96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. 177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sting Calendar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ssessmen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                Date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                       Grade(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PSSA Writing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   March 28-April 1, 2011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 5, 8, 11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PSSA Reading &amp; Math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March 14-March 25, 2011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3 through 8, 11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PSSA Science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  April 4-April 8, 2011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0000"/>
                </a:solidFill>
                <a:latin typeface="Arial"/>
              </a:rPr>
              <a:t>                  4, 8, 11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oetry Brea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read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en All the World Is Full of Sn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New Year Snowbird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then turn on your iClicker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Read the lines from “When All the World Is Full of Snow.”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“I only want/to watch and wait,/while snow moths </a:t>
            </a:r>
            <a:r>
              <a:rPr b="0" lang="en-US" sz="3200" spc="-1" strike="noStrike" u="sng">
                <a:solidFill>
                  <a:srgbClr val="320000"/>
                </a:solidFill>
                <a:uFillTx/>
                <a:latin typeface="Arial"/>
              </a:rPr>
              <a:t>settle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/on the gate”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1800" y="3733920"/>
            <a:ext cx="37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have an agre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make a deci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come to res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o drop to the botto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hich meaning of the word </a:t>
            </a:r>
            <a:r>
              <a:rPr b="0" lang="en-US" sz="2400" spc="-1" strike="noStrike" u="sng">
                <a:solidFill>
                  <a:srgbClr val="320000"/>
                </a:solidFill>
                <a:uFillTx/>
                <a:latin typeface="Arial"/>
              </a:rPr>
              <a:t>settle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is used in the poem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In “When All the World Is Full of Snow,” the speaker compares snowflakes to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124080"/>
            <a:ext cx="30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bees and gate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moths and tree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bees and moth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rees and gat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at does the speaker compare glistening boots to in “New Year Snowbird”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4800" y="320040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w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now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hadow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ich phrase from “New Year Snowbird” is an example of alliteration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5160" y="3276720"/>
            <a:ext cx="360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faraway star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histling wing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nowflakes bounc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tars tickl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The following questions relate to BOTH poems.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ich lines from the poems contain a simile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" y="3124080"/>
            <a:ext cx="853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When I jump toward the light/I close my eyes tight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I never know/just where to go,/when all the world/i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full of snow.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C.   “I fly through the shadows waiting to pounce/on th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porch light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D.   “I only want/myself to be/as silent as a winter tre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ich word </a:t>
            </a: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best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 describes how the speakers in </a:t>
            </a: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both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poems feel when it is snowing outside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9920" y="342900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anxiou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deligh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disappoin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sill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What do the speakers of both poems have in common?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4440" y="3276720"/>
            <a:ext cx="451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 both enjoy snow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y both play in the snow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y both pretend to fly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buClr>
                <a:srgbClr val="32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They both like the stars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Give at least two ways the poems are alike and one way they are different, using specific examples from the poems to support your answer.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8000" y="2895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9544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0000"/>
                </a:solidFill>
                <a:latin typeface="Arial"/>
              </a:rPr>
              <a:t>An Academic Training Program</a:t>
            </a:r>
            <a:endParaRPr b="0" lang="en-US" sz="4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badi MT Condensed Extra Bold"/>
              </a:rPr>
              <a:t>Students doing their best depends not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badi MT Condensed Extra Bold"/>
              </a:rPr>
              <a:t>only on their skills, but also on knowing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badi MT Condensed Extra Bold"/>
              </a:rPr>
              <a:t>these three things…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to expect on these types of tes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ies for answering question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at they have practiced their skil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84" name="Content Placeholder 3" descr="math6.tiff"/>
          <p:cNvPicPr/>
          <p:nvPr/>
        </p:nvPicPr>
        <p:blipFill>
          <a:blip r:embed="rId1"/>
          <a:srcRect l="0" t="-59577" r="0" b="-59577"/>
          <a:stretch/>
        </p:blipFill>
        <p:spPr>
          <a:xfrm>
            <a:off x="1981080" y="-304920"/>
            <a:ext cx="47325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ath6answer.tiff"/>
          <p:cNvPicPr/>
          <p:nvPr/>
        </p:nvPicPr>
        <p:blipFill>
          <a:blip r:embed="rId2"/>
          <a:stretch/>
        </p:blipFill>
        <p:spPr>
          <a:xfrm>
            <a:off x="1905120" y="2895480"/>
            <a:ext cx="2374920" cy="22734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2135520" y="297180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135520" y="35812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2135880" y="41148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133720" y="464832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92" name="Content Placeholder 3" descr="math7.tiff"/>
          <p:cNvPicPr/>
          <p:nvPr/>
        </p:nvPicPr>
        <p:blipFill>
          <a:blip r:embed="rId1"/>
          <a:srcRect l="-70061" t="0" r="-70061" b="0"/>
          <a:stretch/>
        </p:blipFill>
        <p:spPr>
          <a:xfrm>
            <a:off x="84240" y="838080"/>
            <a:ext cx="8373960" cy="5257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2745000" y="17524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668680" y="28195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2669040" y="419112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2666880" y="533412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572000" y="26668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200" name="Content Placeholder 3" descr="math9b.tiff"/>
          <p:cNvPicPr/>
          <p:nvPr/>
        </p:nvPicPr>
        <p:blipFill>
          <a:blip r:embed="rId1"/>
          <a:srcRect l="0" t="-36493" r="0" b="-36493"/>
          <a:stretch/>
        </p:blipFill>
        <p:spPr>
          <a:xfrm>
            <a:off x="1828800" y="2362320"/>
            <a:ext cx="6553080" cy="411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math8.tiff"/>
          <p:cNvPicPr/>
          <p:nvPr/>
        </p:nvPicPr>
        <p:blipFill>
          <a:blip r:embed="rId2"/>
          <a:stretch/>
        </p:blipFill>
        <p:spPr>
          <a:xfrm>
            <a:off x="914400" y="914400"/>
            <a:ext cx="5594400" cy="1808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3657600" y="38098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1982880" y="37339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1982880" y="419112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983240" y="464832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1981080" y="5105520"/>
            <a:ext cx="40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209" name="Content Placeholder 3" descr="math11.tiff"/>
          <p:cNvPicPr/>
          <p:nvPr/>
        </p:nvPicPr>
        <p:blipFill>
          <a:blip r:embed="rId1"/>
          <a:srcRect l="-24078" t="0" r="-24078" b="0"/>
          <a:stretch/>
        </p:blipFill>
        <p:spPr>
          <a:xfrm>
            <a:off x="1981080" y="685800"/>
            <a:ext cx="5105520" cy="3205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math11b.tiff"/>
          <p:cNvPicPr/>
          <p:nvPr/>
        </p:nvPicPr>
        <p:blipFill>
          <a:blip r:embed="rId2"/>
          <a:stretch/>
        </p:blipFill>
        <p:spPr>
          <a:xfrm>
            <a:off x="2514600" y="3886200"/>
            <a:ext cx="3384720" cy="22622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3352680" y="457200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2590920" y="441972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590920" y="4876920"/>
            <a:ext cx="29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2590920" y="5334120"/>
            <a:ext cx="30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2590920" y="5791320"/>
            <a:ext cx="30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e a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end your time wisely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rk your best answer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ways do your bes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check your answer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ink positivel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0000"/>
                </a:solidFill>
                <a:latin typeface="Arial"/>
              </a:rPr>
              <a:t>Cookies!</a:t>
            </a:r>
            <a:endParaRPr b="0" lang="en-US" sz="48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st Bluepri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Diagram 6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66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0000"/>
                </a:solidFill>
                <a:latin typeface="Arial"/>
              </a:rPr>
              <a:t>MATH</a:t>
            </a:r>
            <a:br>
              <a:rPr sz="4200"/>
            </a:br>
            <a:r>
              <a:rPr b="0" lang="en-US" sz="4200" spc="-1" strike="noStrike">
                <a:solidFill>
                  <a:srgbClr val="320000"/>
                </a:solidFill>
                <a:latin typeface="Arial"/>
              </a:rPr>
              <a:t>Reporting Categories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2720" y="2614680"/>
            <a:ext cx="456804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Numbers and Operation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Geometry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Algebra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Data Analysi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will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WE 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oduce robust vocabulary for reading, math, science an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PSSA rubr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actice tes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rent Clin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fter-school practice club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fuse PSSA prep across all subject area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will 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YOU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chedule no appointmen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sure a good night’s sleep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pare a healthy breakfa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rive to school on tim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your chil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k about the te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inforce the need to go back and review answ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t’s try a few samples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3568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8920" y="2673360"/>
            <a:ext cx="59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Arial Rounded MT Bold"/>
              </a:rPr>
              <a:t>Please find our first passage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ff"/>
                </a:solidFill>
                <a:latin typeface="Arial Rounded MT Bold"/>
              </a:rPr>
              <a:t>Ella’s Friend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0:46:54Z</dcterms:created>
  <dc:creator>West Shore  School District</dc:creator>
  <dc:description/>
  <dc:language>en-US</dc:language>
  <cp:lastModifiedBy>West Shore  School District</cp:lastModifiedBy>
  <cp:lastPrinted>2011-02-03T20:38:18Z</cp:lastPrinted>
  <dcterms:modified xsi:type="dcterms:W3CDTF">2011-03-02T18:22:52Z</dcterms:modified>
  <cp:revision>34</cp:revision>
  <dc:subject/>
  <dc:title>PowerPoint Presentation</dc:title>
</cp:coreProperties>
</file>